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9705-6D13-46D5-BE24-50CAAA99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F6E-88E3-4EDE-A981-F7945029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361-89B4-4084-A066-1572B650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608F-2220-41C0-88F6-71D730C7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0EFD-A6CE-4842-9D58-74C3DE95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B6C6-AAB4-4D5F-8AF6-A81A1D1C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62D-1125-4DB1-B99E-53D853D4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0B3-EB1E-4A30-8B7D-5E6BB5B2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FBCF-E672-46D5-94E5-9B135D77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BEE9-5A55-4CFF-B32C-580286A7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5EEF-80A3-479F-9C29-11067D4B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492E-2A3E-4892-8FC7-46B4EFEA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953E-C0B5-4DFD-BABA-2DEF1851A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77 Na Spasiteľa svoj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pasiteľa svoj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pevne nádej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v drahých ranách je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roj večnej spásy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m, namiesto mňa sám šie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ž na kríž Golgot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moje viny zomre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yn Boží presvät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rdce moje ži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mi pomôcť v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trápenie sa vzdi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tiesni so mnou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k jeho nohám kladi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kríž i star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srdce pokoj náj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mier sa rozhost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– moja sp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najkrajšia je zv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život môj to hl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blížnych k nemu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esta, pravda is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život pram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hľadí len na Kris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 vždy byť blažený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16:50:55Z</dcterms:modified>
  <cp:revision>20</cp:revision>
  <dc:subject/>
  <dc:title>Je veľký náš Pán, on slávy je Kráľ Nech do všetkých strán  spev vrúcnych znie chvál.</dc:title>
</cp:coreProperties>
</file>